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1A5-11AE-45B2-B44F-74C10F23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580-EDF8-4A69-8D43-B7951B0C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C19-FF28-43E1-AD5C-07C2C94F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70E-DB31-41E6-B3A1-5785C436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341-A984-4876-B691-27B5B18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94E-5BA7-4F30-89E1-66F3204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094-8122-4A71-A8C2-CE2325EC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FCA-954F-4C16-B64C-0C2F76B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CDF-24CC-4588-9929-E8E4B61F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962-8EFA-4BCC-BB7F-ACA2720D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F7B-FF0F-4BCE-B1D7-7FF83CD8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614-FDC5-4D90-B43B-4031629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4DD3-8657-44E4-8819-08E44978B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Organigrama Mare Nos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1640" y="1585800"/>
            <a:ext cx="8208720" cy="4462920"/>
            <a:chOff x="431640" y="1585800"/>
            <a:chExt cx="8208720" cy="4462920"/>
          </a:xfrm>
        </p:grpSpPr>
        <p:cxnSp>
          <p:nvCxnSpPr>
            <p:cNvPr id="43" name="_s2070"/>
            <p:cNvCxnSpPr>
              <a:stCxn id="44" idx="0"/>
              <a:endCxn id="45" idx="2"/>
            </p:cNvCxnSpPr>
            <p:nvPr/>
          </p:nvCxnSpPr>
          <p:spPr>
            <a:xfrm flipV="1" rot="16200000">
              <a:off x="6384960" y="3589920"/>
              <a:ext cx="558360" cy="2128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2068"/>
            <p:cNvCxnSpPr>
              <a:stCxn id="47" idx="0"/>
              <a:endCxn id="45" idx="2"/>
            </p:cNvCxnSpPr>
            <p:nvPr/>
          </p:nvCxnSpPr>
          <p:spPr>
            <a:xfrm rot="16200000">
              <a:off x="5320800" y="4654080"/>
              <a:ext cx="558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2066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4256640" y="3589920"/>
              <a:ext cx="558360" cy="2128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2064"/>
            <p:cNvCxnSpPr>
              <a:stCxn id="51" idx="0"/>
              <a:endCxn id="52" idx="2"/>
            </p:cNvCxnSpPr>
            <p:nvPr/>
          </p:nvCxnSpPr>
          <p:spPr>
            <a:xfrm flipV="1" rot="16200000">
              <a:off x="5852880" y="1384200"/>
              <a:ext cx="558360" cy="3192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2062"/>
            <p:cNvCxnSpPr>
              <a:stCxn id="45" idx="0"/>
              <a:endCxn id="52" idx="2"/>
            </p:cNvCxnSpPr>
            <p:nvPr/>
          </p:nvCxnSpPr>
          <p:spPr>
            <a:xfrm flipV="1" rot="16200000">
              <a:off x="4788720" y="2448360"/>
              <a:ext cx="558360" cy="1064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061"/>
            <p:cNvCxnSpPr>
              <a:stCxn id="55" idx="0"/>
              <a:endCxn id="52" idx="2"/>
            </p:cNvCxnSpPr>
            <p:nvPr/>
          </p:nvCxnSpPr>
          <p:spPr>
            <a:xfrm flipH="1" flipV="1" rot="5400000">
              <a:off x="3724560" y="2448360"/>
              <a:ext cx="558360" cy="1064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060"/>
            <p:cNvCxnSpPr>
              <a:stCxn id="57" idx="0"/>
              <a:endCxn id="52" idx="2"/>
            </p:cNvCxnSpPr>
            <p:nvPr/>
          </p:nvCxnSpPr>
          <p:spPr>
            <a:xfrm flipH="1" flipV="1" rot="5400000">
              <a:off x="2660760" y="1384200"/>
              <a:ext cx="558360" cy="319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2056"/>
            <p:cNvSpPr/>
            <p:nvPr/>
          </p:nvSpPr>
          <p:spPr>
            <a:xfrm>
              <a:off x="3624120" y="158580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99"/>
                  </a:solidFill>
                  <a:latin typeface="Arial"/>
                </a:rPr>
                <a:t>Director Gener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lipe Grac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57"/>
            <p:cNvSpPr/>
            <p:nvPr/>
          </p:nvSpPr>
          <p:spPr>
            <a:xfrm>
              <a:off x="43164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irec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nanci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ther Martí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8"/>
            <p:cNvSpPr/>
            <p:nvPr/>
          </p:nvSpPr>
          <p:spPr>
            <a:xfrm>
              <a:off x="255960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irector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atriz Calder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59"/>
            <p:cNvSpPr/>
            <p:nvPr/>
          </p:nvSpPr>
          <p:spPr>
            <a:xfrm>
              <a:off x="468792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irector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Prod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 Lópe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3"/>
            <p:cNvSpPr/>
            <p:nvPr/>
          </p:nvSpPr>
          <p:spPr>
            <a:xfrm>
              <a:off x="681624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Arial"/>
                </a:rPr>
                <a:t>Director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Arial"/>
                </a:rPr>
                <a:t>Recursos Huma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ristina Bae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5"/>
            <p:cNvSpPr/>
            <p:nvPr/>
          </p:nvSpPr>
          <p:spPr>
            <a:xfrm>
              <a:off x="255960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</a:rPr>
                <a:t>Camareros(2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7"/>
            <p:cNvSpPr/>
            <p:nvPr/>
          </p:nvSpPr>
          <p:spPr>
            <a:xfrm>
              <a:off x="468792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</a:rPr>
                <a:t>Cocineros(5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9"/>
            <p:cNvSpPr/>
            <p:nvPr/>
          </p:nvSpPr>
          <p:spPr>
            <a:xfrm>
              <a:off x="681624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</a:rPr>
                <a:t>Asistentas(2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9:43:09Z</dcterms:created>
  <dc:creator>Alumno</dc:creator>
  <dc:description/>
  <dc:language>en-US</dc:language>
  <cp:lastModifiedBy>Alumno</cp:lastModifiedBy>
  <dcterms:modified xsi:type="dcterms:W3CDTF">2010-12-16T09:57:53Z</dcterms:modified>
  <cp:revision>2</cp:revision>
  <dc:subject/>
  <dc:title>Organigrama Mare Nostrum</dc:title>
</cp:coreProperties>
</file>